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48769588" cy="12193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D63F-FA06-45A4-837B-34BAED562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147333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016480" y="6834240"/>
            <a:ext cx="147333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6D28-B199-4CC5-A59E-3D0F8A377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566040" y="624816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016480" y="683424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4566040" y="683424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B63C-D3B7-44CB-BC36-95CDC600C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474372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997800" y="6248160"/>
            <a:ext cx="474372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979120" y="6248160"/>
            <a:ext cx="474372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016480" y="6834240"/>
            <a:ext cx="474372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1997800" y="6834240"/>
            <a:ext cx="474372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26979120" y="6834240"/>
            <a:ext cx="474372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AA59-D8D4-4CC5-8ECC-52430B9A75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016480" y="6248160"/>
            <a:ext cx="1473336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8206-E52A-4B17-9839-993E6DB8D5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14733360" cy="1122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EE07-6F4C-48A3-BD40-6442DE637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7189560" cy="1122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4566040" y="6248160"/>
            <a:ext cx="7189560" cy="1122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F52C-CEB4-48F6-AF54-FC27EBD83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D417-2532-4C27-94A8-55C1DBFF4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016480" y="2870280"/>
            <a:ext cx="14733360" cy="152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AB6F-32D6-4718-8916-B9067077F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4566040" y="6248160"/>
            <a:ext cx="7189560" cy="1122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016480" y="683424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A720-BC13-4833-A3ED-20053A702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7189560" cy="1122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4566040" y="624816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566040" y="683424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7E3C-4BAA-4C15-95A1-B3A1F0B72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4566040" y="624816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016480" y="6834240"/>
            <a:ext cx="147333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A2CF-8B45-4C18-83FB-C72B726BE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94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016480" y="6248160"/>
            <a:ext cx="14733360" cy="1122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29000"/>
          </a:bodyPr>
          <a:p>
            <a:pPr indent="0"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1" indent="6624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2" indent="13248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3" indent="1987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4" indent="26496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5" indent="26496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6" indent="26496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4195240" y="10497960"/>
            <a:ext cx="366480" cy="376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 anchorCtr="1">
            <a:noAutofit/>
          </a:bodyPr>
          <a:lstStyle>
            <a:lvl1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2000" spc="-1" strike="noStrike">
                <a:solidFill>
                  <a:srgbClr val="000000"/>
                </a:solidFill>
                <a:latin typeface="Helvetica Light"/>
              </a:defRPr>
            </a:lvl1pPr>
          </a:lstStyle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DED93913-CBEF-44CB-90A9-52693D952B57}" type="slidenum">
              <a:rPr b="0" lang="en-US" sz="20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572760" y="1440"/>
            <a:ext cx="12193560" cy="1219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0" name="pasted-image.tif" descr=""/>
          <p:cNvPicPr/>
          <p:nvPr/>
        </p:nvPicPr>
        <p:blipFill>
          <a:blip r:embed="rId2"/>
          <a:srcRect l="0" t="10645" r="0" b="13929"/>
          <a:stretch/>
        </p:blipFill>
        <p:spPr>
          <a:xfrm>
            <a:off x="36577440" y="-30240"/>
            <a:ext cx="12185640" cy="122522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2188880" y="-4680"/>
            <a:ext cx="24383880" cy="12188880"/>
          </a:xfrm>
          <a:prstGeom prst="rect">
            <a:avLst/>
          </a:prstGeom>
          <a:solidFill>
            <a:srgbClr val="dcdee0"/>
          </a:soli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6640" rIns="26640" tIns="26640" bIns="26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2" name="ULISBOA_VERTICAL_CMYK.jpg" descr=""/>
          <p:cNvPicPr/>
          <p:nvPr/>
        </p:nvPicPr>
        <p:blipFill>
          <a:blip r:embed="rId3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43" name="Logotipo_Faculdade Arquitetura_UL_alta resoluá∆o_ 15.10.2013-01.png" descr=""/>
          <p:cNvPicPr/>
          <p:nvPr/>
        </p:nvPicPr>
        <p:blipFill>
          <a:blip r:embed="rId4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"/>
          <p:cNvSpPr/>
          <p:nvPr/>
        </p:nvSpPr>
        <p:spPr>
          <a:xfrm>
            <a:off x="12196800" y="11442600"/>
            <a:ext cx="2438244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ria da Glória Joana Carlota Leopoldina da Cruz Francisca Xavier de Paula Isidora Micaela Gabriela Rafaela Gonzaga de Braganç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"/>
          <p:cNvSpPr/>
          <p:nvPr/>
        </p:nvSpPr>
        <p:spPr>
          <a:xfrm>
            <a:off x="12438000" y="3351240"/>
            <a:ext cx="243237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modelação geométrica e generativa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7" name=""/>
          <p:cNvSpPr/>
          <p:nvPr/>
        </p:nvSpPr>
        <p:spPr>
          <a:xfrm>
            <a:off x="4260384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úmero 20141234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8" name=""/>
          <p:cNvSpPr/>
          <p:nvPr/>
        </p:nvSpPr>
        <p:spPr>
          <a:xfrm>
            <a:off x="12120480" y="10172880"/>
            <a:ext cx="24485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MESTRADO INTEGRADO EM ARQUITECTURA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9" name=""/>
          <p:cNvSpPr/>
          <p:nvPr/>
        </p:nvSpPr>
        <p:spPr>
          <a:xfrm>
            <a:off x="3659976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RTUG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576000" y="0"/>
            <a:ext cx="12192120" cy="12190320"/>
          </a:xfrm>
          <a:prstGeom prst="rect">
            <a:avLst/>
          </a:prstGeom>
          <a:solidFill>
            <a:srgbClr val="0088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insira aqui a captura de ecrã do seu exercício e apague este texto e fund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use a totalidade deste quadrado de 960x960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insert here the screen capture of our exercise and delete this text and background (fully use this square 960x960 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8" name=""/>
          <p:cNvSpPr/>
          <p:nvPr/>
        </p:nvSpPr>
        <p:spPr>
          <a:xfrm>
            <a:off x="24383880" y="0"/>
            <a:ext cx="12192120" cy="12190320"/>
          </a:xfrm>
          <a:prstGeom prst="rect">
            <a:avLst/>
          </a:prstGeom>
          <a:solidFill>
            <a:srgbClr val="dc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insira aqui a captura de ecrã do seu exercício e apague este texto e fund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use a totalidade deste quadrado de 960x960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insert here the screen capture of our exercise and delete this text and background (fully use this square 960x960 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9" name=""/>
          <p:cNvSpPr/>
          <p:nvPr/>
        </p:nvSpPr>
        <p:spPr>
          <a:xfrm>
            <a:off x="12192120" y="0"/>
            <a:ext cx="12191760" cy="12192120"/>
          </a:xfrm>
          <a:prstGeom prst="rect">
            <a:avLst/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insira aqui a captura de ecrã do seu exercício e apague este texto e fund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use a totalidade deste quadrado de 960x960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insert here the screen capture of our exercise and delete this text and background (fully use this square 960x960 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2192120" cy="12190320"/>
          </a:xfrm>
          <a:prstGeom prst="rect">
            <a:avLst/>
          </a:prstGeom>
          <a:solidFill>
            <a:srgbClr val="036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insira aqui a captura de ecrã do seu exercício e apague este texto e fund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use a totalidade deste quadrado de 960x960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insert here the screen capture of our exercise and delete this text and background (fully use this square 960x960 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576000" y="0"/>
            <a:ext cx="12192120" cy="12190320"/>
          </a:xfrm>
          <a:prstGeom prst="rect">
            <a:avLst/>
          </a:prstGeom>
          <a:solidFill>
            <a:srgbClr val="0088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foto de um exemplo concreto de abóbada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photo of a real 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example of the vaul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2" name=""/>
          <p:cNvSpPr/>
          <p:nvPr/>
        </p:nvSpPr>
        <p:spPr>
          <a:xfrm>
            <a:off x="24383880" y="0"/>
            <a:ext cx="12192120" cy="12190320"/>
          </a:xfrm>
          <a:prstGeom prst="rect">
            <a:avLst/>
          </a:prstGeom>
          <a:solidFill>
            <a:srgbClr val="dc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ponto de vista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perspectiva superior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upper perspective 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(point of view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3" name=""/>
          <p:cNvSpPr/>
          <p:nvPr/>
        </p:nvSpPr>
        <p:spPr>
          <a:xfrm>
            <a:off x="12192120" y="0"/>
            <a:ext cx="12191760" cy="12192120"/>
          </a:xfrm>
          <a:prstGeom prst="rect">
            <a:avLst/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ponto de vista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perspectiva inferior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lower perspective 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(point of view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12192120" cy="12190320"/>
          </a:xfrm>
          <a:prstGeom prst="rect">
            <a:avLst/>
          </a:prstGeom>
          <a:solidFill>
            <a:srgbClr val="036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alçad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elevation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576000" y="0"/>
            <a:ext cx="12192120" cy="12190320"/>
          </a:xfrm>
          <a:prstGeom prst="rect">
            <a:avLst/>
          </a:prstGeom>
          <a:solidFill>
            <a:srgbClr val="0088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foto do arc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entre Lisboa e Sintra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arch phot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(between Lisbon and Sintra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6" name=""/>
          <p:cNvSpPr/>
          <p:nvPr/>
        </p:nvSpPr>
        <p:spPr>
          <a:xfrm>
            <a:off x="24383880" y="0"/>
            <a:ext cx="12192120" cy="12190320"/>
          </a:xfrm>
          <a:prstGeom prst="rect">
            <a:avLst/>
          </a:prstGeom>
          <a:solidFill>
            <a:srgbClr val="dc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arc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arch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7" name=""/>
          <p:cNvSpPr/>
          <p:nvPr/>
        </p:nvSpPr>
        <p:spPr>
          <a:xfrm>
            <a:off x="12192120" y="0"/>
            <a:ext cx="12191760" cy="12192120"/>
          </a:xfrm>
          <a:prstGeom prst="rect">
            <a:avLst/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foto do arc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entre Lisboa e Sintra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arch phot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(between Lisbon and Sintra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12192120" cy="12190320"/>
          </a:xfrm>
          <a:prstGeom prst="rect">
            <a:avLst/>
          </a:prstGeom>
          <a:solidFill>
            <a:srgbClr val="036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arc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arch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600" y="-23760"/>
            <a:ext cx="36534960" cy="121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insira aqui o código GH, em formato PNG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na sua totalidade ou em parte, caso seja grande) 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e apague este texto explicativ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a6aaa9"/>
                </a:solidFill>
                <a:latin typeface="Arial"/>
                <a:ea typeface="Arial"/>
              </a:rPr>
              <a:t>insert here your GH code, in PNG format 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a6aaa9"/>
                </a:solidFill>
                <a:latin typeface="Arial"/>
                <a:ea typeface="Arial"/>
              </a:rPr>
              <a:t>(fully or partially if it is too big) 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a6aaa9"/>
                </a:solidFill>
                <a:latin typeface="Arial"/>
                <a:ea typeface="Arial"/>
              </a:rPr>
              <a:t>and delete this explaining tex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0" y="0"/>
            <a:ext cx="12192120" cy="12192120"/>
          </a:xfrm>
          <a:prstGeom prst="rect">
            <a:avLst/>
          </a:prstGeom>
          <a:solidFill>
            <a:srgbClr val="0088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insira aqui o resultado do código (imagem) e apague este texto e fund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use a totalidade deste quadrado de 960x960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insert here your code result (image) and delete this text and background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(fully use this square 960x960 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572760" y="1440"/>
            <a:ext cx="12193560" cy="1219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1" name="pasted-image.tif" descr=""/>
          <p:cNvPicPr/>
          <p:nvPr/>
        </p:nvPicPr>
        <p:blipFill>
          <a:blip r:embed="rId2"/>
          <a:srcRect l="0" t="10645" r="0" b="13929"/>
          <a:stretch/>
        </p:blipFill>
        <p:spPr>
          <a:xfrm>
            <a:off x="36577440" y="-30240"/>
            <a:ext cx="12185640" cy="12252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88880" y="-4680"/>
            <a:ext cx="24383880" cy="12188880"/>
          </a:xfrm>
          <a:prstGeom prst="rect">
            <a:avLst/>
          </a:prstGeom>
          <a:solidFill>
            <a:srgbClr val="dcdee0"/>
          </a:soli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6640" rIns="26640" tIns="26640" bIns="26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3" name="ULISBOA_VERTICAL_CMYK.jpg" descr=""/>
          <p:cNvPicPr/>
          <p:nvPr/>
        </p:nvPicPr>
        <p:blipFill>
          <a:blip r:embed="rId3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54" name="Logotipo_Faculdade Arquitetura_UL_alta resoluá∆o_ 15.10.2013-01.png" descr=""/>
          <p:cNvPicPr/>
          <p:nvPr/>
        </p:nvPicPr>
        <p:blipFill>
          <a:blip r:embed="rId4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"/>
          <p:cNvSpPr/>
          <p:nvPr/>
        </p:nvSpPr>
        <p:spPr>
          <a:xfrm>
            <a:off x="12196800" y="11442600"/>
            <a:ext cx="2438244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ria da Glória Joana Carlota Leopoldina da Cruz Francisca Xavier de Paula Isidora Micaela Gabriela Rafaela Gonzaga de Braganç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"/>
          <p:cNvSpPr/>
          <p:nvPr/>
        </p:nvSpPr>
        <p:spPr>
          <a:xfrm>
            <a:off x="12438000" y="3351240"/>
            <a:ext cx="243237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3500" spc="-1" strike="noStrike">
                <a:solidFill>
                  <a:srgbClr val="000000"/>
                </a:solidFill>
                <a:latin typeface="Arial"/>
                <a:ea typeface="Arial"/>
              </a:rPr>
              <a:t>modelação paramétrica e prototipagem digital em design</a:t>
            </a:r>
            <a:endParaRPr b="0" lang="en-US" sz="13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"/>
          <p:cNvSpPr/>
          <p:nvPr/>
        </p:nvSpPr>
        <p:spPr>
          <a:xfrm>
            <a:off x="4260384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úmero 20141234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"/>
          <p:cNvSpPr/>
          <p:nvPr/>
        </p:nvSpPr>
        <p:spPr>
          <a:xfrm>
            <a:off x="12120480" y="10172880"/>
            <a:ext cx="24485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LICENCIATURA EM DESIGN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"/>
          <p:cNvSpPr/>
          <p:nvPr/>
        </p:nvSpPr>
        <p:spPr>
          <a:xfrm>
            <a:off x="3659976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RTUG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572760" y="1440"/>
            <a:ext cx="12193560" cy="1219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2" name="pasted-image.tif" descr=""/>
          <p:cNvPicPr/>
          <p:nvPr/>
        </p:nvPicPr>
        <p:blipFill>
          <a:blip r:embed="rId2"/>
          <a:srcRect l="0" t="10645" r="0" b="13929"/>
          <a:stretch/>
        </p:blipFill>
        <p:spPr>
          <a:xfrm>
            <a:off x="36577440" y="-30240"/>
            <a:ext cx="12185640" cy="12252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88880" y="-4680"/>
            <a:ext cx="24383880" cy="12188880"/>
          </a:xfrm>
          <a:prstGeom prst="rect">
            <a:avLst/>
          </a:prstGeom>
          <a:solidFill>
            <a:srgbClr val="dcdee0"/>
          </a:soli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6640" rIns="26640" tIns="26640" bIns="26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4" name="ULISBOA_VERTICAL_CMYK.jpg" descr=""/>
          <p:cNvPicPr/>
          <p:nvPr/>
        </p:nvPicPr>
        <p:blipFill>
          <a:blip r:embed="rId3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65" name="Logotipo_Faculdade Arquitetura_UL_alta resoluá∆o_ 15.10.2013-01.png" descr=""/>
          <p:cNvPicPr/>
          <p:nvPr/>
        </p:nvPicPr>
        <p:blipFill>
          <a:blip r:embed="rId4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"/>
          <p:cNvSpPr/>
          <p:nvPr/>
        </p:nvSpPr>
        <p:spPr>
          <a:xfrm>
            <a:off x="12196800" y="11442600"/>
            <a:ext cx="2438244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ria da Glória Joana Carlota Leopoldina da Cruz Francisca Xavier de Paula Isidora Micaela Gabriela Rafaela Gonzaga de Braganç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"/>
          <p:cNvSpPr/>
          <p:nvPr/>
        </p:nvSpPr>
        <p:spPr>
          <a:xfrm>
            <a:off x="12438000" y="3351240"/>
            <a:ext cx="243237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laboratório de 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desenho paramétrico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9" name=""/>
          <p:cNvSpPr/>
          <p:nvPr/>
        </p:nvSpPr>
        <p:spPr>
          <a:xfrm>
            <a:off x="4260384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úmero 20141234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"/>
          <p:cNvSpPr/>
          <p:nvPr/>
        </p:nvSpPr>
        <p:spPr>
          <a:xfrm>
            <a:off x="12120480" y="10172880"/>
            <a:ext cx="24485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CURSO DE ESPECIALIZAÇÃO EM COMPUTAÇÃO / DOUTORAMENTO EM ARQUITECTURA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"/>
          <p:cNvSpPr/>
          <p:nvPr/>
        </p:nvSpPr>
        <p:spPr>
          <a:xfrm>
            <a:off x="3659976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RTUG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572760" y="1440"/>
            <a:ext cx="12193560" cy="1219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3" name="pasted-image.tif" descr=""/>
          <p:cNvPicPr/>
          <p:nvPr/>
        </p:nvPicPr>
        <p:blipFill>
          <a:blip r:embed="rId2"/>
          <a:srcRect l="0" t="10645" r="0" b="13929"/>
          <a:stretch/>
        </p:blipFill>
        <p:spPr>
          <a:xfrm>
            <a:off x="36577440" y="-30240"/>
            <a:ext cx="12185640" cy="1225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188880" y="-4680"/>
            <a:ext cx="24383880" cy="12188880"/>
          </a:xfrm>
          <a:prstGeom prst="rect">
            <a:avLst/>
          </a:prstGeom>
          <a:solidFill>
            <a:srgbClr val="dcdee0"/>
          </a:soli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6640" rIns="26640" tIns="26640" bIns="26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5" name="ULISBOA_VERTICAL_CMYK.jpg" descr=""/>
          <p:cNvPicPr/>
          <p:nvPr/>
        </p:nvPicPr>
        <p:blipFill>
          <a:blip r:embed="rId3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76" name="Logotipo_Faculdade Arquitetura_UL_alta resoluá∆o_ 15.10.2013-01.png" descr=""/>
          <p:cNvPicPr/>
          <p:nvPr/>
        </p:nvPicPr>
        <p:blipFill>
          <a:blip r:embed="rId4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8" name=""/>
          <p:cNvSpPr/>
          <p:nvPr/>
        </p:nvSpPr>
        <p:spPr>
          <a:xfrm>
            <a:off x="12196800" y="11442600"/>
            <a:ext cx="2438244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ria da Glória Joana Carlota Leopoldina da Cruz Francisca Xavier de Paula Isidora Micaela Gabriela Rafaela Gonzaga de Braganç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9" name=""/>
          <p:cNvSpPr/>
          <p:nvPr/>
        </p:nvSpPr>
        <p:spPr>
          <a:xfrm>
            <a:off x="12438000" y="3351240"/>
            <a:ext cx="243237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introdução ao laboratório de 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desenho paramétrico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0" name=""/>
          <p:cNvSpPr/>
          <p:nvPr/>
        </p:nvSpPr>
        <p:spPr>
          <a:xfrm>
            <a:off x="4260384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úmero 20141234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1" name=""/>
          <p:cNvSpPr/>
          <p:nvPr/>
        </p:nvSpPr>
        <p:spPr>
          <a:xfrm>
            <a:off x="12120480" y="10172880"/>
            <a:ext cx="24485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OPTATIVA DE 2º CICLO DE ESTUDO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2" name=""/>
          <p:cNvSpPr/>
          <p:nvPr/>
        </p:nvSpPr>
        <p:spPr>
          <a:xfrm>
            <a:off x="3659976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RTUG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572760" y="1440"/>
            <a:ext cx="12193560" cy="1219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4" name="pasted-image.tif" descr=""/>
          <p:cNvPicPr/>
          <p:nvPr/>
        </p:nvPicPr>
        <p:blipFill>
          <a:blip r:embed="rId2"/>
          <a:srcRect l="0" t="10645" r="0" b="13929"/>
          <a:stretch/>
        </p:blipFill>
        <p:spPr>
          <a:xfrm>
            <a:off x="36577440" y="-30240"/>
            <a:ext cx="12185640" cy="12252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188880" y="-4680"/>
            <a:ext cx="24383880" cy="12188880"/>
          </a:xfrm>
          <a:prstGeom prst="rect">
            <a:avLst/>
          </a:prstGeom>
          <a:solidFill>
            <a:srgbClr val="dcdee0"/>
          </a:soli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6640" rIns="26640" tIns="26640" bIns="26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6" name="ULISBOA_VERTICAL_CMYK.jpg" descr=""/>
          <p:cNvPicPr/>
          <p:nvPr/>
        </p:nvPicPr>
        <p:blipFill>
          <a:blip r:embed="rId3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87" name="Logotipo_Faculdade Arquitetura_UL_alta resoluá∆o_ 15.10.2013-01.png" descr=""/>
          <p:cNvPicPr/>
          <p:nvPr/>
        </p:nvPicPr>
        <p:blipFill>
          <a:blip r:embed="rId4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"/>
          <p:cNvSpPr/>
          <p:nvPr/>
        </p:nvSpPr>
        <p:spPr>
          <a:xfrm>
            <a:off x="12196800" y="11442600"/>
            <a:ext cx="2438244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ria da Glória Joana Carlota Leopoldina da Cruz Francisca Xavier de Paula Isidora Micaela Gabriela Rafaela Gonzaga de Braganç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"/>
          <p:cNvSpPr/>
          <p:nvPr/>
        </p:nvSpPr>
        <p:spPr>
          <a:xfrm>
            <a:off x="12438000" y="3351240"/>
            <a:ext cx="243237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projecto e 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fabricação digital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1" name=""/>
          <p:cNvSpPr/>
          <p:nvPr/>
        </p:nvSpPr>
        <p:spPr>
          <a:xfrm>
            <a:off x="4260384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úmero 20141234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2" name=""/>
          <p:cNvSpPr/>
          <p:nvPr/>
        </p:nvSpPr>
        <p:spPr>
          <a:xfrm>
            <a:off x="12120480" y="10172880"/>
            <a:ext cx="24485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CURSO DE ESPECIALIZAÇÃO EM COMPUTAÇÃO / DOUTORAMENTO EM ARQUITECTURA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3" name=""/>
          <p:cNvSpPr/>
          <p:nvPr/>
        </p:nvSpPr>
        <p:spPr>
          <a:xfrm>
            <a:off x="3659976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RTUG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531720" y="9360"/>
            <a:ext cx="12190320" cy="121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8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04</a:t>
            </a:r>
            <a:endParaRPr b="0" lang="en-US" sz="80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5" name=""/>
          <p:cNvSpPr/>
          <p:nvPr/>
        </p:nvSpPr>
        <p:spPr>
          <a:xfrm>
            <a:off x="12211200" y="-23760"/>
            <a:ext cx="24336360" cy="121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Dual de um cubo truncado a 1/3 de aresta (em Rhino)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96" name="ULISBOA_VERTICAL_CMYK.jpg" descr=""/>
          <p:cNvPicPr/>
          <p:nvPr/>
        </p:nvPicPr>
        <p:blipFill>
          <a:blip r:embed="rId1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97" name="Logotipo_Faculdade Arquitetura_UL_alta resoluá∆o_ 15.10.2013-01.png" descr=""/>
          <p:cNvPicPr/>
          <p:nvPr/>
        </p:nvPicPr>
        <p:blipFill>
          <a:blip r:embed="rId2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531720" y="9360"/>
            <a:ext cx="12190320" cy="121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8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06</a:t>
            </a:r>
            <a:r>
              <a:rPr b="0" lang="en-US" sz="1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.1</a:t>
            </a:r>
            <a:endParaRPr b="0" lang="en-US" sz="10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0" name=""/>
          <p:cNvSpPr/>
          <p:nvPr/>
        </p:nvSpPr>
        <p:spPr>
          <a:xfrm>
            <a:off x="12211200" y="-23760"/>
            <a:ext cx="24336360" cy="121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Morfogénese Digital: 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construção de uma serpentina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01" name="ULISBOA_VERTICAL_CMYK.jpg" descr=""/>
          <p:cNvPicPr/>
          <p:nvPr/>
        </p:nvPicPr>
        <p:blipFill>
          <a:blip r:embed="rId1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102" name="Logotipo_Faculdade Arquitetura_UL_alta resoluá∆o_ 15.10.2013-01.png" descr=""/>
          <p:cNvPicPr/>
          <p:nvPr/>
        </p:nvPicPr>
        <p:blipFill>
          <a:blip r:embed="rId2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531720" y="9360"/>
            <a:ext cx="12190320" cy="121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8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09</a:t>
            </a:r>
            <a:r>
              <a:rPr b="0" lang="en-US" sz="1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.20</a:t>
            </a:r>
            <a:endParaRPr b="0" lang="en-US" sz="10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12211200" y="-23760"/>
            <a:ext cx="24336360" cy="121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Construções Geométricas: 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arco romano polilobulado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06" name="ULISBOA_VERTICAL_CMYK.jpg" descr=""/>
          <p:cNvPicPr/>
          <p:nvPr/>
        </p:nvPicPr>
        <p:blipFill>
          <a:blip r:embed="rId1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107" name="Logotipo_Faculdade Arquitetura_UL_alta resoluá∆o_ 15.10.2013-01.png" descr=""/>
          <p:cNvPicPr/>
          <p:nvPr/>
        </p:nvPicPr>
        <p:blipFill>
          <a:blip r:embed="rId2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531720" y="9360"/>
            <a:ext cx="12190320" cy="121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8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09</a:t>
            </a:r>
            <a:r>
              <a:rPr b="0" lang="en-US" sz="1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.20</a:t>
            </a:r>
            <a:endParaRPr b="0" lang="en-US" sz="10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1" name=""/>
          <p:cNvSpPr/>
          <p:nvPr/>
        </p:nvSpPr>
        <p:spPr>
          <a:xfrm>
            <a:off x="12211200" y="-23760"/>
            <a:ext cx="24336360" cy="121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Construções Geométricas: 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19. arco elíptico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20. arco romano polilobulado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2" name="ULISBOA_VERTICAL_CMYK.jpg" descr=""/>
          <p:cNvPicPr/>
          <p:nvPr/>
        </p:nvPicPr>
        <p:blipFill>
          <a:blip r:embed="rId1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113" name="Logotipo_Faculdade Arquitetura_UL_alta resoluá∆o_ 15.10.2013-01.png" descr=""/>
          <p:cNvPicPr/>
          <p:nvPr/>
        </p:nvPicPr>
        <p:blipFill>
          <a:blip r:embed="rId2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6" name=""/>
          <p:cNvSpPr/>
          <p:nvPr/>
        </p:nvSpPr>
        <p:spPr>
          <a:xfrm>
            <a:off x="45407160" y="6813720"/>
            <a:ext cx="3105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.19</a:t>
            </a:r>
            <a:endParaRPr b="0" lang="en-US" sz="10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