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48769588" cy="12193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3AB7-F4C3-4741-BAF8-4A726A94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016480" y="683424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EA17-16BC-4EAE-82CD-CD34C7492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456604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703C-27B0-4D5B-9D97-BB223D80B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99780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979120" y="624816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01648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199780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6979120" y="6834240"/>
            <a:ext cx="474372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2CA-20CD-4ED1-9E9B-C18022DDB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74AD-2C18-4B29-9FA0-DF91E762A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0828-E74A-4981-9D61-F09F913F7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1C9D-B779-44B8-A447-010F61DCA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3F0C-1728-4269-B831-8AF142FF8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016480" y="2870280"/>
            <a:ext cx="14733360" cy="152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6EAE-2720-4F17-91A0-C4AF43CF3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753A-460F-48F5-AF73-D6E7759D2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566040" y="683424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C502-B5A5-482B-BBB4-1F4FF26CA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01648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4566040" y="6248160"/>
            <a:ext cx="71895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016480" y="6834240"/>
            <a:ext cx="14733360" cy="534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89000"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AA51-0D44-4F03-9D7D-2721A6D78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016480" y="2870280"/>
            <a:ext cx="14733360" cy="3287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016480" y="6248160"/>
            <a:ext cx="14733360" cy="1122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29000"/>
          </a:bodyPr>
          <a:p>
            <a:pPr indent="0"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indent="662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2" indent="132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3" indent="1987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4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5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6" indent="26496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4195240" y="10497960"/>
            <a:ext cx="366480" cy="376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 anchorCtr="1">
            <a:noAutofit/>
          </a:bodyPr>
          <a:lstStyle>
            <a:lvl1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2000" spc="-1" strike="noStrike">
                <a:solidFill>
                  <a:srgbClr val="000000"/>
                </a:solidFill>
                <a:latin typeface="Helvetica Light"/>
              </a:defRPr>
            </a:lvl1pPr>
          </a:lstStyle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53B6D8EE-2085-42E0-B109-9CA2D0DCD052}" type="slidenum">
              <a:rPr b="0" lang="en-US" sz="20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0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43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modelação geométrica e generativa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MESTRADO INTEGRAD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a captura de ecrã do seu exercício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the screen capture of our exercise and delete this text and background 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e um exemplo concreto de abóbada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photo of a real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example of the vaul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ponto de vist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perspectiva superior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upper perspective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point of view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3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ponto de vist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perspectiva inferior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lower perspective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point of view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lça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elevation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576000" y="0"/>
            <a:ext cx="12192120" cy="121903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o 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entre Lisboa e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 phot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between Lisbon and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"/>
          <p:cNvSpPr/>
          <p:nvPr/>
        </p:nvSpPr>
        <p:spPr>
          <a:xfrm>
            <a:off x="24383880" y="0"/>
            <a:ext cx="12192120" cy="12190320"/>
          </a:xfrm>
          <a:prstGeom prst="rect">
            <a:avLst/>
          </a:prstGeom>
          <a:solidFill>
            <a:srgbClr val="dc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"/>
          <p:cNvSpPr/>
          <p:nvPr/>
        </p:nvSpPr>
        <p:spPr>
          <a:xfrm>
            <a:off x="12192120" y="0"/>
            <a:ext cx="12191760" cy="12192120"/>
          </a:xfrm>
          <a:prstGeom prst="rect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foto do 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entre Lisboa e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 phot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between Lisbon and Sintra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2192120" cy="12190320"/>
          </a:xfrm>
          <a:prstGeom prst="rect">
            <a:avLst/>
          </a:prstGeom>
          <a:solidFill>
            <a:srgbClr val="03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arc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rch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600" y="-23760"/>
            <a:ext cx="365349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o código GH, em formato PNG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na sua totalidade ou em parte, caso seja grande)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e apague este texto explicativ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insert here your GH code, in PNG format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(fully or partially if it is too big) 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a6aaa9"/>
                </a:solidFill>
                <a:latin typeface="Arial"/>
                <a:ea typeface="Arial"/>
              </a:rPr>
              <a:t>and delete this explaining tex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0" y="0"/>
            <a:ext cx="12192120" cy="12192120"/>
          </a:xfrm>
          <a:prstGeom prst="rect">
            <a:avLst/>
          </a:prstGeom>
          <a:solidFill>
            <a:srgbClr val="00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insira aqui o resultado do código (imagem) e apague este texto e fundo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(use a totalidade deste quadrado de 960x960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insert here your code result (image) and delete this text and background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(fully use this square 960x960 px)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1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3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54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3500" spc="-1" strike="noStrike">
                <a:solidFill>
                  <a:srgbClr val="000000"/>
                </a:solidFill>
                <a:latin typeface="Arial"/>
                <a:ea typeface="Arial"/>
              </a:rPr>
              <a:t>modelação paramétrica e prototipagem digital em design</a:t>
            </a:r>
            <a:endParaRPr b="0" lang="en-US" sz="1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LICENCIATURA EM DESIG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2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4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65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laboratório d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desenho paramétrico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URSO DE ESPECIALIZAÇÃO EM COMPUTAÇÃO / DOUTORAMENT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3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5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76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introdução ao laboratório d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desenho paramétrico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OPTATIVA DE 2º CICLO DE ESTUDO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572760" y="1440"/>
            <a:ext cx="12193560" cy="1219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4" name="pasted-image.tif" descr=""/>
          <p:cNvPicPr/>
          <p:nvPr/>
        </p:nvPicPr>
        <p:blipFill>
          <a:blip r:embed="rId2"/>
          <a:srcRect l="0" t="10645" r="0" b="13929"/>
          <a:stretch/>
        </p:blipFill>
        <p:spPr>
          <a:xfrm>
            <a:off x="36577440" y="-30240"/>
            <a:ext cx="12185640" cy="12252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188880" y="-4680"/>
            <a:ext cx="24383880" cy="12188880"/>
          </a:xfrm>
          <a:prstGeom prst="rect">
            <a:avLst/>
          </a:prstGeom>
          <a:solidFill>
            <a:srgbClr val="dcdee0"/>
          </a:soli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6640" rIns="26640" tIns="26640" bIns="2664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ULISBOA_VERTICAL_CMYK.jpg" descr=""/>
          <p:cNvPicPr/>
          <p:nvPr/>
        </p:nvPicPr>
        <p:blipFill>
          <a:blip r:embed="rId3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87" name="Logotipo_Faculdade Arquitetura_UL_alta resoluá∆o_ 15.10.2013-01.png" descr=""/>
          <p:cNvPicPr/>
          <p:nvPr/>
        </p:nvPicPr>
        <p:blipFill>
          <a:blip r:embed="rId4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"/>
          <p:cNvSpPr/>
          <p:nvPr/>
        </p:nvSpPr>
        <p:spPr>
          <a:xfrm>
            <a:off x="12196800" y="11442600"/>
            <a:ext cx="2438244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ria da Glória Joana Carlota Leopoldina da Cruz Francisca Xavier de Paula Isidora Micaela Gabriela Rafaela Gonzaga de Braganç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"/>
          <p:cNvSpPr/>
          <p:nvPr/>
        </p:nvSpPr>
        <p:spPr>
          <a:xfrm>
            <a:off x="12438000" y="3351240"/>
            <a:ext cx="243237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projecto e 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5000" spc="-1" strike="noStrike">
                <a:solidFill>
                  <a:srgbClr val="000000"/>
                </a:solidFill>
                <a:latin typeface="Arial"/>
                <a:ea typeface="Arial"/>
              </a:rPr>
              <a:t>fabricação digital</a:t>
            </a:r>
            <a:endParaRPr b="0" lang="en-US" sz="15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"/>
          <p:cNvSpPr/>
          <p:nvPr/>
        </p:nvSpPr>
        <p:spPr>
          <a:xfrm>
            <a:off x="4260384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úmero 20141234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"/>
          <p:cNvSpPr/>
          <p:nvPr/>
        </p:nvSpPr>
        <p:spPr>
          <a:xfrm>
            <a:off x="12120480" y="10172880"/>
            <a:ext cx="2448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CURSO DE ESPECIALIZAÇÃO EM COMPUTAÇÃO / DOUTORAMENTO EM ARQUITECTUR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"/>
          <p:cNvSpPr/>
          <p:nvPr/>
        </p:nvSpPr>
        <p:spPr>
          <a:xfrm>
            <a:off x="36599760" y="11442600"/>
            <a:ext cx="6095880" cy="76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RTUG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4</a:t>
            </a:r>
            <a:endParaRPr b="0" lang="en-US" sz="8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Dual de um cubo truncado a 1/3 de aresta (em Rhino)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6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97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6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1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Morfogénese Digital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ão de uma serpentina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1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02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9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20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ões Geométricas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arco romano polilobulad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6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07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31720" y="9360"/>
            <a:ext cx="12190320" cy="12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8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09</a:t>
            </a: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20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"/>
          <p:cNvSpPr/>
          <p:nvPr/>
        </p:nvSpPr>
        <p:spPr>
          <a:xfrm>
            <a:off x="12211200" y="-23760"/>
            <a:ext cx="24336360" cy="12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Construções Geométricas: 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19. arco elíptic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i="1" lang="en-US" sz="12000" spc="-1" strike="noStrike">
                <a:solidFill>
                  <a:srgbClr val="000000"/>
                </a:solidFill>
                <a:latin typeface="Arial"/>
                <a:ea typeface="Arial"/>
              </a:rPr>
              <a:t>20. arco romano polilobulado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2" name="ULISBOA_VERTICAL_CMYK.jpg" descr=""/>
          <p:cNvPicPr/>
          <p:nvPr/>
        </p:nvPicPr>
        <p:blipFill>
          <a:blip r:embed="rId1"/>
          <a:stretch/>
        </p:blipFill>
        <p:spPr>
          <a:xfrm>
            <a:off x="3908520" y="263520"/>
            <a:ext cx="4413240" cy="7394760"/>
          </a:xfrm>
          <a:prstGeom prst="rect">
            <a:avLst/>
          </a:prstGeom>
          <a:ln w="0">
            <a:noFill/>
          </a:ln>
        </p:spPr>
      </p:pic>
      <p:pic>
        <p:nvPicPr>
          <p:cNvPr id="113" name="Logotipo_Faculdade Arquitetura_UL_alta resoluá∆o_ 15.10.2013-01.png" descr=""/>
          <p:cNvPicPr/>
          <p:nvPr/>
        </p:nvPicPr>
        <p:blipFill>
          <a:blip r:embed="rId2"/>
          <a:srcRect l="0" t="4732" r="0" b="0"/>
          <a:stretch/>
        </p:blipFill>
        <p:spPr>
          <a:xfrm>
            <a:off x="1509840" y="7351560"/>
            <a:ext cx="9210600" cy="420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3240"/>
            <a:ext cx="12188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2017-201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"/>
          <p:cNvSpPr/>
          <p:nvPr/>
        </p:nvSpPr>
        <p:spPr>
          <a:xfrm>
            <a:off x="45407160" y="6813720"/>
            <a:ext cx="3105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.19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